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ct" ContentType="image/x-pict"/>
  <Override PartName="/ppt/media/image10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Click to move the slid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71B7-B60B-4806-BA47-AE6B51969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1B89-0192-401F-9F5A-9E084CB91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7CC8-CD06-48C0-A1C7-230A82A03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58A5-C1B9-450A-9C16-89364CE70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4896-1FB8-4B57-8B5D-D002D33AA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A2FD-5E96-4BF3-89B6-FE8AEE48C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E1BE-20C6-4607-8714-E1A2D4600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952D-29CE-4829-922D-309C01FF9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57240" y="712800"/>
            <a:ext cx="4943520" cy="34225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B7D6-9E9B-4C30-8824-2BAAEAB5E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5286-F09B-4ECB-8609-5813F3A22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096E-4D76-4C83-BABD-60D7EB20F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051-7018-4CF9-996A-57F3A09B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F8B-0441-4D6F-8632-F7F71DB9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6A1-9D99-484B-8F2B-9EBCEA1E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114-56AC-4DD1-A766-37E3C500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FD2-292B-49FD-B46A-02169FF8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485-7F3B-4A07-82EE-E8C73D70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F88-6F91-4E78-869E-020D8D72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A22-7A59-4879-BCB2-25B35F49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BB4-F228-499D-A419-47674557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2BE-E8F0-4D85-899B-9CEBE77E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A9F-9FFD-4084-BE4D-B709007B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598-9205-4E66-96BD-51B73920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460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184A-441B-429F-9501-7B0946D464FE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677160" cy="1049400"/>
            <a:chOff x="0" y="0"/>
            <a:chExt cx="9677160" cy="1049400"/>
          </a:xfrm>
        </p:grpSpPr>
        <p:sp>
          <p:nvSpPr>
            <p:cNvPr id="6" name=""/>
            <p:cNvSpPr/>
            <p:nvPr/>
          </p:nvSpPr>
          <p:spPr>
            <a:xfrm>
              <a:off x="807840" y="493560"/>
              <a:ext cx="886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2580480" y="139680"/>
              <a:ext cx="6989400" cy="35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II  2004-2005</a:t>
              </a:r>
              <a:endPara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1040" cy="104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3880" y="685440"/>
            <a:ext cx="487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202"/>
                </a:solidFill>
                <a:latin typeface="Comic Sans MS"/>
              </a:rPr>
              <a:t>THALASSEMIA</a:t>
            </a:r>
            <a:endParaRPr b="1" lang="en-US" sz="36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277440" y="53341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33400" y="1447920"/>
            <a:ext cx="5778720" cy="387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5894280"/>
            <a:ext cx="9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materiale didattico per questa lezione e’ a disposizione presso il Dipartimento di Genetica e Microbiolo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88E-34DE-459D-89A5-1CCFD4FF2E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242640" y="1295280"/>
            <a:ext cx="9005760" cy="747720"/>
            <a:chOff x="242640" y="1295280"/>
            <a:chExt cx="9005760" cy="747720"/>
          </a:xfrm>
        </p:grpSpPr>
        <p:sp>
          <p:nvSpPr>
            <p:cNvPr id="501" name=""/>
            <p:cNvSpPr/>
            <p:nvPr/>
          </p:nvSpPr>
          <p:spPr>
            <a:xfrm>
              <a:off x="973440" y="1510920"/>
              <a:ext cx="1990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9880" y="190152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3340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2136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81120" y="1760400"/>
              <a:ext cx="381600" cy="2109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852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5480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334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03640" y="1298160"/>
              <a:ext cx="31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49240" y="1407960"/>
              <a:ext cx="5634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43600" y="1384200"/>
              <a:ext cx="563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78760" y="13507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71360" y="1350720"/>
              <a:ext cx="3513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33440" y="20430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8524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330400" y="2043000"/>
              <a:ext cx="38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46840" y="1407960"/>
              <a:ext cx="4928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2640" y="129528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lobine 11p1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0900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9696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288000" y="2158920"/>
            <a:ext cx="922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riginata principalmente da mutazioni il cui effetto attraverso meccan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si e’ quello di avere un deficit di caten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 I siti di mutazione so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ratteristici di una popol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599920" y="3474720"/>
            <a:ext cx="5535720" cy="1903680"/>
            <a:chOff x="2599920" y="3474720"/>
            <a:chExt cx="5535720" cy="1903680"/>
          </a:xfrm>
        </p:grpSpPr>
        <p:grpSp>
          <p:nvGrpSpPr>
            <p:cNvPr id="523" name=""/>
            <p:cNvGrpSpPr/>
            <p:nvPr/>
          </p:nvGrpSpPr>
          <p:grpSpPr>
            <a:xfrm>
              <a:off x="2741400" y="4191120"/>
              <a:ext cx="5394240" cy="307080"/>
              <a:chOff x="2741400" y="4191120"/>
              <a:chExt cx="5394240" cy="307080"/>
            </a:xfrm>
          </p:grpSpPr>
          <p:sp>
            <p:nvSpPr>
              <p:cNvPr id="524" name=""/>
              <p:cNvSpPr/>
              <p:nvPr/>
            </p:nvSpPr>
            <p:spPr>
              <a:xfrm>
                <a:off x="2741400" y="4368960"/>
                <a:ext cx="533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222720" y="42292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915720" y="4229280"/>
                <a:ext cx="101448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557240" y="42292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49880" y="42292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64720" y="42292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763000" y="41911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5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814880" y="41911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21408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5508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6912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36880" y="42181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intr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355360" y="42181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intr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2599920" y="3579840"/>
              <a:ext cx="627120" cy="784440"/>
              <a:chOff x="2599920" y="3579840"/>
              <a:chExt cx="627120" cy="784440"/>
            </a:xfrm>
          </p:grpSpPr>
          <p:sp>
            <p:nvSpPr>
              <p:cNvPr id="538" name=""/>
              <p:cNvSpPr/>
              <p:nvPr/>
            </p:nvSpPr>
            <p:spPr>
              <a:xfrm rot="418800">
                <a:off x="2641680" y="3610080"/>
                <a:ext cx="54324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02"/>
                  </a:gs>
                  <a:gs pos="50000">
                    <a:srgbClr val="ffdd00"/>
                  </a:gs>
                  <a:gs pos="100000">
                    <a:srgbClr val="ff020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767320" y="36417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3543840" y="3475080"/>
              <a:ext cx="2826360" cy="784800"/>
              <a:chOff x="3543840" y="3475080"/>
              <a:chExt cx="2826360" cy="784800"/>
            </a:xfrm>
          </p:grpSpPr>
          <p:sp>
            <p:nvSpPr>
              <p:cNvPr id="541" name=""/>
              <p:cNvSpPr/>
              <p:nvPr/>
            </p:nvSpPr>
            <p:spPr>
              <a:xfrm rot="418800">
                <a:off x="411948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418800">
                <a:off x="4930200" y="3505320"/>
                <a:ext cx="54396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418800">
                <a:off x="578448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418800">
                <a:off x="358560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5520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726720" y="3554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05692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91480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351600" y="4475520"/>
              <a:ext cx="3798360" cy="902880"/>
              <a:chOff x="3351600" y="4475520"/>
              <a:chExt cx="3798360" cy="902880"/>
            </a:xfrm>
          </p:grpSpPr>
          <p:sp>
            <p:nvSpPr>
              <p:cNvPr id="550" name=""/>
              <p:cNvSpPr/>
              <p:nvPr/>
            </p:nvSpPr>
            <p:spPr>
              <a:xfrm rot="11700000">
                <a:off x="343584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1700000">
                <a:off x="476028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1700000">
                <a:off x="652176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642840" y="5003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968720" y="5010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724800" y="49910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6692400" y="3474720"/>
              <a:ext cx="628920" cy="784800"/>
              <a:chOff x="6692400" y="3474720"/>
              <a:chExt cx="628920" cy="784800"/>
            </a:xfrm>
          </p:grpSpPr>
          <p:sp>
            <p:nvSpPr>
              <p:cNvPr id="557" name=""/>
              <p:cNvSpPr/>
              <p:nvPr/>
            </p:nvSpPr>
            <p:spPr>
              <a:xfrm rot="418800">
                <a:off x="6734160" y="3504960"/>
                <a:ext cx="54504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de"/>
                  </a:gs>
                  <a:gs pos="50000">
                    <a:srgbClr val="009999"/>
                  </a:gs>
                  <a:gs pos="100000">
                    <a:srgbClr val="ff02d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87060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566640" y="5334120"/>
            <a:ext cx="897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 mutazioni nel promotore portano diminuzione del livello promo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2 mutazioni puntiformi all’interno degli esoni causano sostituzioni aa o fine tra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 mutazioni introni, alterazione spli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 mutazione in siti di poliadeni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  <a:ea typeface="ＭＳ Ｐゴシック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B2F-8346-4E49-B636-E03E82829F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82440" y="1219320"/>
            <a:ext cx="9410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alassemia: tutte le forme in cui manca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’mRNA puo’ mancare completamente, degradato o ina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440" y="1981080"/>
            <a:ext cx="982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alassemia: tutte le forme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’ sottorappres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’mRNA puo’ non venire processato in maniera corretta o essere poco rappresent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0680" y="3124080"/>
            <a:ext cx="9080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 questa categoria appartengono l’emoglobine Lepore: per effetto di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rossingover fra i gen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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he hanno una parziale omologia di sequenza) 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ttiene un gen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he viene trascritto in minor quantita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il promotore d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’ piu’ debo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65760" y="5281560"/>
            <a:ext cx="268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5760" y="5283360"/>
            <a:ext cx="52488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41880" y="5283360"/>
            <a:ext cx="457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150920" y="5675040"/>
            <a:ext cx="3967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46240" y="5581800"/>
            <a:ext cx="341280" cy="139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82920" y="5581800"/>
            <a:ext cx="342720" cy="139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54160" y="5581800"/>
            <a:ext cx="34164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67160" y="5562720"/>
            <a:ext cx="34272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6080" y="5581800"/>
            <a:ext cx="33984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53440" y="5315040"/>
            <a:ext cx="349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08560" y="5315040"/>
            <a:ext cx="2948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0280" y="5661000"/>
            <a:ext cx="198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49600" y="5715000"/>
            <a:ext cx="209520" cy="1983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28920" y="6016680"/>
            <a:ext cx="400176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59160" y="5931000"/>
            <a:ext cx="342720" cy="137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00520" y="5931000"/>
            <a:ext cx="339480" cy="137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67160" y="5931000"/>
            <a:ext cx="341280" cy="137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44960" y="5943600"/>
            <a:ext cx="341280" cy="1382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28640" y="5931000"/>
            <a:ext cx="343080" cy="137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62480" y="5979960"/>
            <a:ext cx="268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93200" y="5981760"/>
            <a:ext cx="52488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48800" y="6040440"/>
            <a:ext cx="349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75120" y="6040440"/>
            <a:ext cx="2948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38960" y="5981760"/>
            <a:ext cx="457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681520" y="5765760"/>
            <a:ext cx="4141440" cy="1015920"/>
            <a:chOff x="5681520" y="5765760"/>
            <a:chExt cx="4141440" cy="1015920"/>
          </a:xfrm>
        </p:grpSpPr>
        <p:sp>
          <p:nvSpPr>
            <p:cNvPr id="589" name=""/>
            <p:cNvSpPr/>
            <p:nvPr/>
          </p:nvSpPr>
          <p:spPr>
            <a:xfrm>
              <a:off x="5738040" y="6321600"/>
              <a:ext cx="4002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68640" y="6235560"/>
              <a:ext cx="3420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08920" y="623556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11120" y="6235560"/>
              <a:ext cx="34092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37760" y="623556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71600" y="628488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02320" y="6286680"/>
              <a:ext cx="52488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98880" y="6345360"/>
              <a:ext cx="474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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48440" y="628668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49840" y="5791320"/>
              <a:ext cx="161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thalassem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81520" y="5765760"/>
              <a:ext cx="4141440" cy="10159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  <a:ea typeface="ＭＳ Ｐゴシック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5681520" y="4724280"/>
            <a:ext cx="4141440" cy="1016280"/>
            <a:chOff x="5681520" y="4724280"/>
            <a:chExt cx="4141440" cy="1016280"/>
          </a:xfrm>
        </p:grpSpPr>
        <p:sp>
          <p:nvSpPr>
            <p:cNvPr id="602" name=""/>
            <p:cNvSpPr/>
            <p:nvPr/>
          </p:nvSpPr>
          <p:spPr>
            <a:xfrm>
              <a:off x="7892280" y="4827600"/>
              <a:ext cx="122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nti-Lep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81520" y="4724280"/>
              <a:ext cx="4141440" cy="1016280"/>
            </a:xfrm>
            <a:prstGeom prst="rect">
              <a:avLst/>
            </a:prstGeom>
            <a:solidFill>
              <a:srgbClr val="ff0202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14920" y="5126040"/>
              <a:ext cx="522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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69880" y="512280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00600" y="5124600"/>
              <a:ext cx="52488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46360" y="512460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855040" y="5516280"/>
              <a:ext cx="3967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5144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88120" y="5423040"/>
              <a:ext cx="3420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5908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832240" y="5423040"/>
              <a:ext cx="34236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2056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758000" y="515628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848080" y="5156280"/>
              <a:ext cx="2948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350920" y="542124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58E-BBD1-4C4C-99B9-5387812D85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714840" y="2409840"/>
            <a:ext cx="12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75080" y="332424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75080" y="2409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1520" y="3327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15840" y="3497400"/>
            <a:ext cx="38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226000" y="4314960"/>
            <a:ext cx="10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86360" y="4495680"/>
            <a:ext cx="8511120" cy="1179000"/>
            <a:chOff x="486360" y="4495680"/>
            <a:chExt cx="8511120" cy="1179000"/>
          </a:xfrm>
        </p:grpSpPr>
        <p:sp>
          <p:nvSpPr>
            <p:cNvPr id="624" name=""/>
            <p:cNvSpPr/>
            <p:nvPr/>
          </p:nvSpPr>
          <p:spPr>
            <a:xfrm>
              <a:off x="486360" y="4495680"/>
              <a:ext cx="58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9040" y="50320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1548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84000" y="469872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0020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279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9804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687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584560" y="514008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77720" y="5867280"/>
            <a:ext cx="934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st per la mutazion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  basato sul dot-blot. Ibridazione con oligonucleotide normale (N) e mutante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910040" y="1622520"/>
            <a:ext cx="785880" cy="154944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3103560" y="1647720"/>
            <a:ext cx="858960" cy="14828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6603840" y="3629160"/>
            <a:ext cx="498600" cy="990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7920" y="3805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test mutazioni globin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A52-59C2-4891-9369-5560651816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mutazioni d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 nelle diverse popolazion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359640" y="1754280"/>
            <a:ext cx="8303400" cy="1618560"/>
            <a:chOff x="359640" y="1754280"/>
            <a:chExt cx="8303400" cy="1618560"/>
          </a:xfrm>
        </p:grpSpPr>
        <p:sp>
          <p:nvSpPr>
            <p:cNvPr id="640" name=""/>
            <p:cNvSpPr/>
            <p:nvPr/>
          </p:nvSpPr>
          <p:spPr>
            <a:xfrm>
              <a:off x="359640" y="1754280"/>
              <a:ext cx="8303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ardegna:  codone 39 da glutamina a stop       proteina tronca      95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6   perdita di una base      frameshift           2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76   perdita di una base          =                 0.7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A                  splicing alterato    0.5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G                      ==               0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80840" y="29592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94520" y="325116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98600" y="4713120"/>
            <a:ext cx="8267040" cy="1618560"/>
            <a:chOff x="498600" y="4713120"/>
            <a:chExt cx="8267040" cy="1618560"/>
          </a:xfrm>
        </p:grpSpPr>
        <p:sp>
          <p:nvSpPr>
            <p:cNvPr id="644" name=""/>
            <p:cNvSpPr/>
            <p:nvPr/>
          </p:nvSpPr>
          <p:spPr>
            <a:xfrm>
              <a:off x="498600" y="4713120"/>
              <a:ext cx="82670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recia:    codone 39  da glutamina a stop     proteina tronca       1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    G       A              splicing alterato      13.6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6    T       C              splicing alterato       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 A                    ==               43.7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 G                       ==               7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618000" y="59180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32040" y="62100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45720" y="52560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59400" y="554796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60560" y="3689280"/>
            <a:ext cx="901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l delta del PO la mutazione piu’ frequente provoca un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er un segnale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plicing ambig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826-8F1D-49B1-AB66-A8513149E1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mutazioni d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 nelle diverse popolazion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431720" y="1754280"/>
            <a:ext cx="713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na  :  codone 41/42  -TCTT                    frameshift        38.6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2 654   C      T                                       15.7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71/76   + una base               frameshift        12.4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28G           A      G                                       11.6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17      A      T                                       10.5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84720" y="295920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67160" y="325116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62440" y="3571920"/>
            <a:ext cx="7628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kistan    codone 8/9  + una base                frameshift        28.9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5    G       C                                     26.4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e di 619bp                                          23.3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1    G       T                                       8.2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41/42  -TCTT                    frameshift        7.9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28880" y="41148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32040" y="47242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49600" y="22860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1708560" y="5413320"/>
            <a:ext cx="6633000" cy="1313640"/>
            <a:chOff x="1708560" y="5413320"/>
            <a:chExt cx="6633000" cy="1313640"/>
          </a:xfrm>
        </p:grpSpPr>
        <p:sp>
          <p:nvSpPr>
            <p:cNvPr id="659" name=""/>
            <p:cNvSpPr/>
            <p:nvPr/>
          </p:nvSpPr>
          <p:spPr>
            <a:xfrm>
              <a:off x="1708560" y="5413320"/>
              <a:ext cx="6633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fro americani:  -29         A       G                                 60.3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88          C      T                                  21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24    T     A                                    7.9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6     - una base                                 0.8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34240" y="594684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51800" y="63277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51800" y="56419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FA0-1267-4ACC-BC34-398DAA6A5A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Perche’ queste differenze?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1816200" y="1371600"/>
            <a:ext cx="511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HARDY- WEIN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1200" y="1752480"/>
            <a:ext cx="9201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una popolazio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nfinitamente gran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gli incroci avveng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asualmen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on vi siano mut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migr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selezion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alleliche in locus con 2 alleli non cambiano nel tempo, e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genotipiche si stabilizzano secondo le proporzioni: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2pq +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5240" y="3581280"/>
            <a:ext cx="9740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 sempre tenuto presente che H-W e’ un modello  matematico che ci fornisce “un’ipotesi zero” cioe’ un punto di partenza per saggiare gli effetti che possono modificare le frequenze alleliche: ci permette di individuare le forze che  fanno evolvere una popolazione natur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47680" y="4952880"/>
            <a:ext cx="9493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do esaminando una popolazione trovo che le frequenze genotipiche si discostano significativamente dall’atteso vuol dire che una delle condizioni e’ venuta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13A-CA44-44F2-A87E-1A634FCE8A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Domand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413280" y="1295280"/>
            <a:ext cx="84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che’ gli alleli “thalassemici” hanno questa frequenza? N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vrebbero spar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200" y="2286000"/>
            <a:ext cx="953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: gli omozigoti e gli eterozigoti composti sono grave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romessi e non si riproducono quindi ad ogni generazione una quo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alleli si dovrebbe perdere e la frequenza dell’allele”malato” dovreb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minuire drastic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2840" y="3809880"/>
            <a:ext cx="87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identemente c’e’ stato qualcosa nel corso dell’evoluzione che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cuni ambienti a favorito gli eterozig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4920" y="4800600"/>
            <a:ext cx="89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 perche’ le mutazioni hanno frequenze diverse nelle popolazion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2040" y="5562720"/>
            <a:ext cx="59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ffetto del fondatore o del collo di bottigl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522-2A82-4CFE-B220-7F02FA749A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  <a:ea typeface="ＭＳ Ｐゴシック"/>
              </a:rPr>
              <a:t>Cluster delle globine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412920" y="1523880"/>
            <a:ext cx="924552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rivano da duplicazione genica, per effetto del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nversione genica rendono un locus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ot-spo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di mut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0320" y="3505320"/>
            <a:ext cx="9028080" cy="742680"/>
            <a:chOff x="220320" y="3505320"/>
            <a:chExt cx="9028080" cy="742680"/>
          </a:xfrm>
        </p:grpSpPr>
        <p:sp>
          <p:nvSpPr>
            <p:cNvPr id="59" name=""/>
            <p:cNvSpPr/>
            <p:nvPr/>
          </p:nvSpPr>
          <p:spPr>
            <a:xfrm>
              <a:off x="2369880" y="410688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8640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136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0932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01480" y="3965400"/>
              <a:ext cx="5364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95440" y="3965400"/>
              <a:ext cx="53496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36760" y="3965400"/>
              <a:ext cx="381600" cy="2127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33440" y="3965400"/>
              <a:ext cx="5346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21280" y="35053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40960" y="3578400"/>
              <a:ext cx="6346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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91760" y="35892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86560" y="35892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27040" y="35560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26400" y="35560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58000" y="3627360"/>
              <a:ext cx="342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3440" y="42480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01480" y="4248000"/>
              <a:ext cx="38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73200" y="4248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636760" y="4248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320" y="361944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lobine 16p1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370240" y="5649840"/>
            <a:ext cx="687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337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213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81840" y="5508720"/>
            <a:ext cx="380880" cy="21096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8488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551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3380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4000" y="5046840"/>
            <a:ext cx="313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49600" y="5156280"/>
            <a:ext cx="563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960" y="5132520"/>
            <a:ext cx="563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78400" y="5099040"/>
            <a:ext cx="4291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71360" y="5099040"/>
            <a:ext cx="3513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3800" y="5791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84880" y="57913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31120" y="57913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7200" y="5156280"/>
            <a:ext cx="492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000" y="5043600"/>
            <a:ext cx="1969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ggruppam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lobine 11p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10080" y="5791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97320" y="57913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19E-52B6-4361-A861-FE42AE711F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2680" y="1693800"/>
            <a:ext cx="924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60" y="4303800"/>
            <a:ext cx="841320" cy="2109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9248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92480" y="4867200"/>
            <a:ext cx="841320" cy="212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33760" y="3809880"/>
            <a:ext cx="84168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3760" y="4867200"/>
            <a:ext cx="841680" cy="21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54840" y="4586400"/>
            <a:ext cx="841320" cy="210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5484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4840" y="5361120"/>
            <a:ext cx="84132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4400" y="387972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46200" y="3597120"/>
            <a:ext cx="687600" cy="141480"/>
          </a:xfrm>
          <a:custGeom>
            <a:avLst/>
            <a:gdLst>
              <a:gd name="textAreaLeft" fmla="*/ 120240 w 687600"/>
              <a:gd name="textAreaRight" fmla="*/ 498600 w 68760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008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3260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32600" y="4373640"/>
            <a:ext cx="687240" cy="14112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120"/>
              <a:gd name="textAreaBottom" fmla="*/ 122400 h 141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19120" y="3244680"/>
            <a:ext cx="1164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22200" y="4373640"/>
            <a:ext cx="68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11240" y="4020840"/>
            <a:ext cx="45900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1240" y="4373640"/>
            <a:ext cx="381240" cy="42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30920" y="4021200"/>
            <a:ext cx="1452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11560" y="387972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11560" y="500868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78560" y="3879720"/>
            <a:ext cx="1071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593680" y="4630680"/>
            <a:ext cx="1188720" cy="29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4040" y="5087520"/>
            <a:ext cx="1188000" cy="29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32920" y="4168800"/>
            <a:ext cx="1741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15600" y="366876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0712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24920" y="36687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24920" y="44085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29280" y="4444920"/>
            <a:ext cx="473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46480" y="5222880"/>
            <a:ext cx="500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55160" y="5149800"/>
            <a:ext cx="1404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47440" y="3457440"/>
            <a:ext cx="681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01920" y="4514760"/>
            <a:ext cx="825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7200" y="442584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24240" y="484812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Evoluzione delle globine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E44-CD02-49B0-A1BE-A944841123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30800" y="6060960"/>
            <a:ext cx="13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90960" y="4594320"/>
            <a:ext cx="22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0040" y="1244520"/>
            <a:ext cx="8811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 LCR si trovano a monte dei raggruppamenti e la loro funzione sareb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lla di organizzare il raggruppamento in un dominio di cromatina attiv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gendo com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nhanc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6080" y="2514600"/>
            <a:ext cx="914616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cromatina attiva si presenta sensibile alla Dnasi I e grazie a qu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atteristica sono state identificate le LCR per i due aggruppameni globini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’ stato anche possibile riconoscere che questa ipersensibilita’ e’ modulata n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versi stadi di svilup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96480" y="6278400"/>
            <a:ext cx="609480" cy="282600"/>
          </a:xfrm>
          <a:custGeom>
            <a:avLst/>
            <a:gdLst>
              <a:gd name="textAreaLeft" fmla="*/ 95040 w 609480"/>
              <a:gd name="textAreaRight" fmla="*/ 533520 w 60948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112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8920" y="4313160"/>
            <a:ext cx="382320" cy="5637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544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48440" y="4452840"/>
            <a:ext cx="53532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488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90120" y="4452840"/>
            <a:ext cx="534960" cy="3542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900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7680" y="4594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11240" y="4594320"/>
            <a:ext cx="83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6080" y="4594320"/>
            <a:ext cx="106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19840" y="4594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83760" y="459432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480" y="4384800"/>
            <a:ext cx="114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51680" y="4067280"/>
            <a:ext cx="128232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0       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1760" y="3780000"/>
            <a:ext cx="483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13960" y="377496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63120" y="379584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61200" y="4383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02520" y="4383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42400" y="438300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11880" y="380988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53560" y="404172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78320" y="4078440"/>
            <a:ext cx="294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62400" y="5902200"/>
            <a:ext cx="53640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576108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95840" y="591984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13800" y="590076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89800" y="5900760"/>
            <a:ext cx="5367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59400" y="5919840"/>
            <a:ext cx="534960" cy="352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78200" y="5919840"/>
            <a:ext cx="53532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9920" y="604368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16160" y="604368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14640" y="606096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6560" y="6041880"/>
            <a:ext cx="6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0240" y="576108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00320" y="5761080"/>
            <a:ext cx="38232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13520" y="606096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48760" y="60418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61080" y="5400720"/>
            <a:ext cx="15872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  HS-3 HS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0160" y="5549760"/>
            <a:ext cx="609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40160" y="5830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38680" y="590076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56320" y="585000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7640" y="5850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67560" y="5829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90120" y="5829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1200" y="5487840"/>
            <a:ext cx="4352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92240" y="5495760"/>
            <a:ext cx="416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38600" y="5567400"/>
            <a:ext cx="461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76200" y="5548320"/>
            <a:ext cx="28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22800" y="5535720"/>
            <a:ext cx="302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960" y="5800680"/>
            <a:ext cx="1148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524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trollo dei cluster globinici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106-5C8C-41A4-BED3-44A0C5F4F6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080" y="456840"/>
            <a:ext cx="965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Sintesi globine nella vita fetale ed adult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17161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73160" y="1447920"/>
            <a:ext cx="8051760" cy="3290760"/>
            <a:chOff x="1073160" y="1447920"/>
            <a:chExt cx="8051760" cy="3290760"/>
          </a:xfrm>
        </p:grpSpPr>
        <p:sp>
          <p:nvSpPr>
            <p:cNvPr id="198" name=""/>
            <p:cNvSpPr/>
            <p:nvPr/>
          </p:nvSpPr>
          <p:spPr>
            <a:xfrm>
              <a:off x="1073160" y="1746360"/>
              <a:ext cx="7925040" cy="2992320"/>
            </a:xfrm>
            <a:custGeom>
              <a:avLst/>
              <a:gdLst/>
              <a:ahLst/>
              <a:rect l="l" t="t" r="r" b="b"/>
              <a:pathLst>
                <a:path w="4608" h="1885">
                  <a:moveTo>
                    <a:pt x="0" y="1885"/>
                  </a:moveTo>
                  <a:cubicBezTo>
                    <a:pt x="10" y="1809"/>
                    <a:pt x="21" y="1734"/>
                    <a:pt x="40" y="1661"/>
                  </a:cubicBezTo>
                  <a:cubicBezTo>
                    <a:pt x="37" y="1610"/>
                    <a:pt x="32" y="1559"/>
                    <a:pt x="32" y="1509"/>
                  </a:cubicBezTo>
                  <a:cubicBezTo>
                    <a:pt x="32" y="1343"/>
                    <a:pt x="52" y="1437"/>
                    <a:pt x="32" y="1357"/>
                  </a:cubicBezTo>
                  <a:cubicBezTo>
                    <a:pt x="39" y="1302"/>
                    <a:pt x="41" y="1210"/>
                    <a:pt x="72" y="1165"/>
                  </a:cubicBezTo>
                  <a:cubicBezTo>
                    <a:pt x="130" y="1077"/>
                    <a:pt x="179" y="1009"/>
                    <a:pt x="216" y="901"/>
                  </a:cubicBezTo>
                  <a:cubicBezTo>
                    <a:pt x="263" y="759"/>
                    <a:pt x="349" y="659"/>
                    <a:pt x="448" y="549"/>
                  </a:cubicBezTo>
                  <a:cubicBezTo>
                    <a:pt x="483" y="509"/>
                    <a:pt x="512" y="464"/>
                    <a:pt x="552" y="429"/>
                  </a:cubicBezTo>
                  <a:cubicBezTo>
                    <a:pt x="671" y="321"/>
                    <a:pt x="955" y="224"/>
                    <a:pt x="1048" y="181"/>
                  </a:cubicBezTo>
                  <a:cubicBezTo>
                    <a:pt x="1093" y="159"/>
                    <a:pt x="1177" y="110"/>
                    <a:pt x="1240" y="101"/>
                  </a:cubicBezTo>
                  <a:cubicBezTo>
                    <a:pt x="1596" y="44"/>
                    <a:pt x="1970" y="59"/>
                    <a:pt x="2328" y="53"/>
                  </a:cubicBezTo>
                  <a:cubicBezTo>
                    <a:pt x="2717" y="61"/>
                    <a:pt x="3106" y="45"/>
                    <a:pt x="3496" y="61"/>
                  </a:cubicBezTo>
                  <a:cubicBezTo>
                    <a:pt x="3641" y="31"/>
                    <a:pt x="3758" y="29"/>
                    <a:pt x="3920" y="21"/>
                  </a:cubicBezTo>
                  <a:cubicBezTo>
                    <a:pt x="3944" y="16"/>
                    <a:pt x="3967" y="0"/>
                    <a:pt x="3992" y="5"/>
                  </a:cubicBezTo>
                  <a:cubicBezTo>
                    <a:pt x="4016" y="9"/>
                    <a:pt x="4038" y="26"/>
                    <a:pt x="4064" y="29"/>
                  </a:cubicBezTo>
                  <a:cubicBezTo>
                    <a:pt x="4170" y="37"/>
                    <a:pt x="4277" y="44"/>
                    <a:pt x="4384" y="53"/>
                  </a:cubicBezTo>
                  <a:cubicBezTo>
                    <a:pt x="4444" y="73"/>
                    <a:pt x="4393" y="58"/>
                    <a:pt x="4520" y="69"/>
                  </a:cubicBezTo>
                  <a:cubicBezTo>
                    <a:pt x="4605" y="76"/>
                    <a:pt x="4580" y="96"/>
                    <a:pt x="4608" y="6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816040" y="1447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80920" y="2414520"/>
            <a:ext cx="8620200" cy="2489400"/>
            <a:chOff x="880920" y="2414520"/>
            <a:chExt cx="8620200" cy="2489400"/>
          </a:xfrm>
        </p:grpSpPr>
        <p:sp>
          <p:nvSpPr>
            <p:cNvPr id="201" name=""/>
            <p:cNvSpPr/>
            <p:nvPr/>
          </p:nvSpPr>
          <p:spPr>
            <a:xfrm>
              <a:off x="880920" y="2414520"/>
              <a:ext cx="8377560" cy="2408400"/>
            </a:xfrm>
            <a:custGeom>
              <a:avLst/>
              <a:gdLst/>
              <a:ahLst/>
              <a:rect l="l" t="t" r="r" b="b"/>
              <a:pathLst>
                <a:path w="4872" h="1517">
                  <a:moveTo>
                    <a:pt x="0" y="952"/>
                  </a:moveTo>
                  <a:cubicBezTo>
                    <a:pt x="37" y="944"/>
                    <a:pt x="74" y="937"/>
                    <a:pt x="112" y="928"/>
                  </a:cubicBezTo>
                  <a:cubicBezTo>
                    <a:pt x="128" y="923"/>
                    <a:pt x="160" y="912"/>
                    <a:pt x="160" y="912"/>
                  </a:cubicBezTo>
                  <a:cubicBezTo>
                    <a:pt x="200" y="881"/>
                    <a:pt x="257" y="842"/>
                    <a:pt x="304" y="824"/>
                  </a:cubicBezTo>
                  <a:cubicBezTo>
                    <a:pt x="349" y="778"/>
                    <a:pt x="408" y="755"/>
                    <a:pt x="456" y="712"/>
                  </a:cubicBezTo>
                  <a:cubicBezTo>
                    <a:pt x="567" y="612"/>
                    <a:pt x="401" y="749"/>
                    <a:pt x="560" y="600"/>
                  </a:cubicBezTo>
                  <a:cubicBezTo>
                    <a:pt x="582" y="579"/>
                    <a:pt x="610" y="565"/>
                    <a:pt x="632" y="544"/>
                  </a:cubicBezTo>
                  <a:cubicBezTo>
                    <a:pt x="670" y="505"/>
                    <a:pt x="703" y="460"/>
                    <a:pt x="744" y="424"/>
                  </a:cubicBezTo>
                  <a:cubicBezTo>
                    <a:pt x="763" y="406"/>
                    <a:pt x="803" y="376"/>
                    <a:pt x="824" y="352"/>
                  </a:cubicBezTo>
                  <a:cubicBezTo>
                    <a:pt x="863" y="305"/>
                    <a:pt x="897" y="248"/>
                    <a:pt x="944" y="208"/>
                  </a:cubicBezTo>
                  <a:cubicBezTo>
                    <a:pt x="964" y="189"/>
                    <a:pt x="993" y="183"/>
                    <a:pt x="1016" y="168"/>
                  </a:cubicBezTo>
                  <a:cubicBezTo>
                    <a:pt x="1083" y="121"/>
                    <a:pt x="1147" y="69"/>
                    <a:pt x="1216" y="24"/>
                  </a:cubicBezTo>
                  <a:cubicBezTo>
                    <a:pt x="1360" y="38"/>
                    <a:pt x="1503" y="25"/>
                    <a:pt x="1648" y="16"/>
                  </a:cubicBezTo>
                  <a:cubicBezTo>
                    <a:pt x="1708" y="0"/>
                    <a:pt x="1771" y="20"/>
                    <a:pt x="1832" y="32"/>
                  </a:cubicBezTo>
                  <a:cubicBezTo>
                    <a:pt x="1911" y="71"/>
                    <a:pt x="1990" y="111"/>
                    <a:pt x="2064" y="160"/>
                  </a:cubicBezTo>
                  <a:cubicBezTo>
                    <a:pt x="2105" y="283"/>
                    <a:pt x="2057" y="155"/>
                    <a:pt x="2096" y="232"/>
                  </a:cubicBezTo>
                  <a:cubicBezTo>
                    <a:pt x="2113" y="267"/>
                    <a:pt x="2110" y="301"/>
                    <a:pt x="2136" y="336"/>
                  </a:cubicBezTo>
                  <a:cubicBezTo>
                    <a:pt x="2147" y="351"/>
                    <a:pt x="2163" y="361"/>
                    <a:pt x="2176" y="376"/>
                  </a:cubicBezTo>
                  <a:cubicBezTo>
                    <a:pt x="2205" y="410"/>
                    <a:pt x="2174" y="394"/>
                    <a:pt x="2216" y="408"/>
                  </a:cubicBezTo>
                  <a:cubicBezTo>
                    <a:pt x="2234" y="424"/>
                    <a:pt x="2252" y="440"/>
                    <a:pt x="2272" y="456"/>
                  </a:cubicBezTo>
                  <a:cubicBezTo>
                    <a:pt x="2290" y="470"/>
                    <a:pt x="2310" y="481"/>
                    <a:pt x="2328" y="496"/>
                  </a:cubicBezTo>
                  <a:cubicBezTo>
                    <a:pt x="2356" y="518"/>
                    <a:pt x="2370" y="545"/>
                    <a:pt x="2400" y="568"/>
                  </a:cubicBezTo>
                  <a:cubicBezTo>
                    <a:pt x="2426" y="648"/>
                    <a:pt x="2502" y="718"/>
                    <a:pt x="2560" y="776"/>
                  </a:cubicBezTo>
                  <a:cubicBezTo>
                    <a:pt x="2642" y="858"/>
                    <a:pt x="2528" y="719"/>
                    <a:pt x="2640" y="840"/>
                  </a:cubicBezTo>
                  <a:cubicBezTo>
                    <a:pt x="2697" y="902"/>
                    <a:pt x="2720" y="986"/>
                    <a:pt x="2776" y="1048"/>
                  </a:cubicBezTo>
                  <a:cubicBezTo>
                    <a:pt x="2808" y="1083"/>
                    <a:pt x="2847" y="1087"/>
                    <a:pt x="2872" y="1136"/>
                  </a:cubicBezTo>
                  <a:cubicBezTo>
                    <a:pt x="2877" y="1146"/>
                    <a:pt x="2879" y="1159"/>
                    <a:pt x="2888" y="1168"/>
                  </a:cubicBezTo>
                  <a:cubicBezTo>
                    <a:pt x="2924" y="1204"/>
                    <a:pt x="3003" y="1255"/>
                    <a:pt x="3056" y="1264"/>
                  </a:cubicBezTo>
                  <a:cubicBezTo>
                    <a:pt x="3093" y="1269"/>
                    <a:pt x="3168" y="1280"/>
                    <a:pt x="3168" y="1280"/>
                  </a:cubicBezTo>
                  <a:cubicBezTo>
                    <a:pt x="3230" y="1300"/>
                    <a:pt x="3265" y="1356"/>
                    <a:pt x="3328" y="1384"/>
                  </a:cubicBezTo>
                  <a:cubicBezTo>
                    <a:pt x="3451" y="1438"/>
                    <a:pt x="3588" y="1442"/>
                    <a:pt x="3720" y="1448"/>
                  </a:cubicBezTo>
                  <a:cubicBezTo>
                    <a:pt x="4046" y="1517"/>
                    <a:pt x="4323" y="1501"/>
                    <a:pt x="4664" y="1496"/>
                  </a:cubicBezTo>
                  <a:cubicBezTo>
                    <a:pt x="4823" y="1477"/>
                    <a:pt x="4754" y="1480"/>
                    <a:pt x="4872" y="148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90800" y="4535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66880" y="3303720"/>
            <a:ext cx="854640" cy="1473120"/>
            <a:chOff x="866880" y="3303720"/>
            <a:chExt cx="854640" cy="1473120"/>
          </a:xfrm>
        </p:grpSpPr>
        <p:sp>
          <p:nvSpPr>
            <p:cNvPr id="204" name=""/>
            <p:cNvSpPr/>
            <p:nvPr/>
          </p:nvSpPr>
          <p:spPr>
            <a:xfrm>
              <a:off x="866880" y="3303720"/>
              <a:ext cx="852480" cy="1473120"/>
            </a:xfrm>
            <a:custGeom>
              <a:avLst/>
              <a:gdLst/>
              <a:ahLst/>
              <a:rect l="l" t="t" r="r" b="b"/>
              <a:pathLst>
                <a:path w="496" h="928">
                  <a:moveTo>
                    <a:pt x="0" y="0"/>
                  </a:moveTo>
                  <a:cubicBezTo>
                    <a:pt x="29" y="72"/>
                    <a:pt x="27" y="148"/>
                    <a:pt x="72" y="216"/>
                  </a:cubicBezTo>
                  <a:cubicBezTo>
                    <a:pt x="88" y="282"/>
                    <a:pt x="68" y="216"/>
                    <a:pt x="96" y="272"/>
                  </a:cubicBezTo>
                  <a:cubicBezTo>
                    <a:pt x="115" y="310"/>
                    <a:pt x="110" y="335"/>
                    <a:pt x="136" y="376"/>
                  </a:cubicBezTo>
                  <a:cubicBezTo>
                    <a:pt x="146" y="392"/>
                    <a:pt x="168" y="424"/>
                    <a:pt x="168" y="424"/>
                  </a:cubicBezTo>
                  <a:cubicBezTo>
                    <a:pt x="183" y="518"/>
                    <a:pt x="205" y="611"/>
                    <a:pt x="232" y="704"/>
                  </a:cubicBezTo>
                  <a:cubicBezTo>
                    <a:pt x="243" y="745"/>
                    <a:pt x="245" y="772"/>
                    <a:pt x="272" y="808"/>
                  </a:cubicBezTo>
                  <a:cubicBezTo>
                    <a:pt x="307" y="914"/>
                    <a:pt x="396" y="928"/>
                    <a:pt x="496" y="928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1800" y="439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73160" y="1944720"/>
            <a:ext cx="8075160" cy="2941560"/>
            <a:chOff x="1073160" y="1944720"/>
            <a:chExt cx="8075160" cy="2941560"/>
          </a:xfrm>
        </p:grpSpPr>
        <p:sp>
          <p:nvSpPr>
            <p:cNvPr id="207" name=""/>
            <p:cNvSpPr/>
            <p:nvPr/>
          </p:nvSpPr>
          <p:spPr>
            <a:xfrm>
              <a:off x="1073160" y="1970280"/>
              <a:ext cx="7993440" cy="2916000"/>
            </a:xfrm>
            <a:custGeom>
              <a:avLst/>
              <a:gdLst/>
              <a:ahLst/>
              <a:rect l="l" t="t" r="r" b="b"/>
              <a:pathLst>
                <a:path w="4648" h="1837">
                  <a:moveTo>
                    <a:pt x="0" y="1816"/>
                  </a:moveTo>
                  <a:cubicBezTo>
                    <a:pt x="65" y="1837"/>
                    <a:pt x="117" y="1783"/>
                    <a:pt x="176" y="1768"/>
                  </a:cubicBezTo>
                  <a:cubicBezTo>
                    <a:pt x="207" y="1759"/>
                    <a:pt x="272" y="1744"/>
                    <a:pt x="272" y="1744"/>
                  </a:cubicBezTo>
                  <a:cubicBezTo>
                    <a:pt x="320" y="1716"/>
                    <a:pt x="360" y="1663"/>
                    <a:pt x="416" y="1656"/>
                  </a:cubicBezTo>
                  <a:cubicBezTo>
                    <a:pt x="570" y="1633"/>
                    <a:pt x="724" y="1620"/>
                    <a:pt x="880" y="1608"/>
                  </a:cubicBezTo>
                  <a:cubicBezTo>
                    <a:pt x="944" y="1586"/>
                    <a:pt x="864" y="1608"/>
                    <a:pt x="928" y="1608"/>
                  </a:cubicBezTo>
                  <a:cubicBezTo>
                    <a:pt x="1098" y="1608"/>
                    <a:pt x="1269" y="1595"/>
                    <a:pt x="1440" y="1592"/>
                  </a:cubicBezTo>
                  <a:cubicBezTo>
                    <a:pt x="1547" y="1584"/>
                    <a:pt x="1705" y="1591"/>
                    <a:pt x="1816" y="1552"/>
                  </a:cubicBezTo>
                  <a:cubicBezTo>
                    <a:pt x="1909" y="1518"/>
                    <a:pt x="1982" y="1451"/>
                    <a:pt x="2080" y="1432"/>
                  </a:cubicBezTo>
                  <a:cubicBezTo>
                    <a:pt x="2208" y="1354"/>
                    <a:pt x="2334" y="1279"/>
                    <a:pt x="2480" y="1240"/>
                  </a:cubicBezTo>
                  <a:cubicBezTo>
                    <a:pt x="2570" y="1188"/>
                    <a:pt x="2528" y="1205"/>
                    <a:pt x="2584" y="1120"/>
                  </a:cubicBezTo>
                  <a:cubicBezTo>
                    <a:pt x="2627" y="1053"/>
                    <a:pt x="2614" y="1089"/>
                    <a:pt x="2664" y="1040"/>
                  </a:cubicBezTo>
                  <a:cubicBezTo>
                    <a:pt x="2717" y="986"/>
                    <a:pt x="2768" y="906"/>
                    <a:pt x="2832" y="864"/>
                  </a:cubicBezTo>
                  <a:cubicBezTo>
                    <a:pt x="2923" y="727"/>
                    <a:pt x="3074" y="676"/>
                    <a:pt x="3208" y="600"/>
                  </a:cubicBezTo>
                  <a:cubicBezTo>
                    <a:pt x="3263" y="568"/>
                    <a:pt x="3302" y="490"/>
                    <a:pt x="3344" y="464"/>
                  </a:cubicBezTo>
                  <a:cubicBezTo>
                    <a:pt x="3433" y="407"/>
                    <a:pt x="3623" y="360"/>
                    <a:pt x="3696" y="328"/>
                  </a:cubicBezTo>
                  <a:cubicBezTo>
                    <a:pt x="3737" y="309"/>
                    <a:pt x="3854" y="223"/>
                    <a:pt x="3920" y="208"/>
                  </a:cubicBezTo>
                  <a:cubicBezTo>
                    <a:pt x="3977" y="194"/>
                    <a:pt x="4085" y="176"/>
                    <a:pt x="4152" y="168"/>
                  </a:cubicBezTo>
                  <a:cubicBezTo>
                    <a:pt x="4186" y="133"/>
                    <a:pt x="4208" y="75"/>
                    <a:pt x="4256" y="64"/>
                  </a:cubicBezTo>
                  <a:cubicBezTo>
                    <a:pt x="4335" y="44"/>
                    <a:pt x="4409" y="28"/>
                    <a:pt x="4488" y="0"/>
                  </a:cubicBezTo>
                  <a:cubicBezTo>
                    <a:pt x="4599" y="10"/>
                    <a:pt x="4546" y="8"/>
                    <a:pt x="4648" y="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42680" y="19447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25920" y="4157640"/>
            <a:ext cx="4862880" cy="746280"/>
            <a:chOff x="4525920" y="4157640"/>
            <a:chExt cx="4862880" cy="746280"/>
          </a:xfrm>
        </p:grpSpPr>
        <p:sp>
          <p:nvSpPr>
            <p:cNvPr id="210" name=""/>
            <p:cNvSpPr/>
            <p:nvPr/>
          </p:nvSpPr>
          <p:spPr>
            <a:xfrm>
              <a:off x="4525920" y="4471920"/>
              <a:ext cx="4651200" cy="432000"/>
            </a:xfrm>
            <a:custGeom>
              <a:avLst/>
              <a:gdLst/>
              <a:ahLst/>
              <a:rect l="l" t="t" r="r" b="b"/>
              <a:pathLst>
                <a:path w="2704" h="272">
                  <a:moveTo>
                    <a:pt x="0" y="272"/>
                  </a:moveTo>
                  <a:cubicBezTo>
                    <a:pt x="155" y="233"/>
                    <a:pt x="320" y="233"/>
                    <a:pt x="480" y="224"/>
                  </a:cubicBezTo>
                  <a:cubicBezTo>
                    <a:pt x="619" y="189"/>
                    <a:pt x="797" y="206"/>
                    <a:pt x="944" y="200"/>
                  </a:cubicBezTo>
                  <a:cubicBezTo>
                    <a:pt x="1175" y="212"/>
                    <a:pt x="1399" y="213"/>
                    <a:pt x="1632" y="208"/>
                  </a:cubicBezTo>
                  <a:cubicBezTo>
                    <a:pt x="1769" y="199"/>
                    <a:pt x="1884" y="190"/>
                    <a:pt x="2016" y="176"/>
                  </a:cubicBezTo>
                  <a:cubicBezTo>
                    <a:pt x="2123" y="149"/>
                    <a:pt x="2235" y="142"/>
                    <a:pt x="2344" y="120"/>
                  </a:cubicBezTo>
                  <a:cubicBezTo>
                    <a:pt x="2427" y="102"/>
                    <a:pt x="2508" y="75"/>
                    <a:pt x="2592" y="64"/>
                  </a:cubicBezTo>
                  <a:cubicBezTo>
                    <a:pt x="2613" y="55"/>
                    <a:pt x="2637" y="52"/>
                    <a:pt x="2656" y="40"/>
                  </a:cubicBezTo>
                  <a:cubicBezTo>
                    <a:pt x="2665" y="33"/>
                    <a:pt x="2671" y="23"/>
                    <a:pt x="2680" y="16"/>
                  </a:cubicBezTo>
                  <a:cubicBezTo>
                    <a:pt x="2687" y="9"/>
                    <a:pt x="2704" y="0"/>
                    <a:pt x="2704" y="0"/>
                  </a:cubicBezTo>
                </a:path>
              </a:pathLst>
            </a:custGeom>
            <a:noFill/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95400" y="415764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84320" y="1716120"/>
            <a:ext cx="9391320" cy="4300560"/>
            <a:chOff x="184320" y="1716120"/>
            <a:chExt cx="9391320" cy="4300560"/>
          </a:xfrm>
        </p:grpSpPr>
        <p:sp>
          <p:nvSpPr>
            <p:cNvPr id="213" name=""/>
            <p:cNvSpPr/>
            <p:nvPr/>
          </p:nvSpPr>
          <p:spPr>
            <a:xfrm>
              <a:off x="743040" y="171612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160" y="4916520"/>
              <a:ext cx="891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3040" y="5678640"/>
              <a:ext cx="883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0" y="5648400"/>
              <a:ext cx="21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ettimane di v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28880" y="4992840"/>
              <a:ext cx="826920" cy="307080"/>
            </a:xfrm>
            <a:prstGeom prst="rect">
              <a:avLst/>
            </a:prstGeom>
            <a:gradFill rotWithShape="0">
              <a:gsLst>
                <a:gs pos="0">
                  <a:srgbClr val="70f1ff"/>
                </a:gs>
                <a:gs pos="100000">
                  <a:srgbClr val="ffb5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as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41320" y="4995720"/>
              <a:ext cx="72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        12       18      24      30       36                        6        12       18       24       30       36       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62600" y="5297400"/>
              <a:ext cx="98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re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57880" y="529740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ost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184320" y="2384280"/>
              <a:ext cx="454680" cy="11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84360" y="6002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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embr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39720" y="63705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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fe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70600" y="5999040"/>
            <a:ext cx="22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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05080" y="6303960"/>
            <a:ext cx="23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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3A4-308B-4DD7-BC84-E6EE716D83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47680" y="1295280"/>
            <a:ext cx="949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uppo di malattie ereditarie determinate dall’alterato rapporto fra le catene alfa e beta, per cui si hanno molecole di emoglobina aberra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0120" y="2514600"/>
            <a:ext cx="941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lassemia alfa : catene alf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lassemia beta: catene bet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0120" y="3505320"/>
            <a:ext cx="93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no autosomiche recessive, ma possono essere manifestate anche in eterozigo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120" y="4419720"/>
            <a:ext cx="93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on sono uniformemente distribuite nel mondo, hanno prevalenza massima in alcune a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2920" y="5322960"/>
            <a:ext cx="932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ogni popolazione si trovano un numero molto limitato di mutazioni, ma una mutazione rara o assente in una popolazione puo’ risultare frequente in un’al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  <a:ea typeface="ＭＳ Ｐゴシック"/>
              </a:rPr>
              <a:t>Le thalassemi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6A6-7DCA-43DC-86BC-A5E540326D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43520" y="1219320"/>
            <a:ext cx="914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riginata principalmente da delezioni dei geni alfa: su ogni cromosoma 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no presenti 2 copie espresse del gene alfa : la delezione puo’ riguard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 o due copie,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i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86920" y="2505240"/>
            <a:ext cx="9027720" cy="1065960"/>
            <a:chOff x="286920" y="2505240"/>
            <a:chExt cx="9027720" cy="1065960"/>
          </a:xfrm>
        </p:grpSpPr>
        <p:sp>
          <p:nvSpPr>
            <p:cNvPr id="234" name=""/>
            <p:cNvSpPr/>
            <p:nvPr/>
          </p:nvSpPr>
          <p:spPr>
            <a:xfrm>
              <a:off x="3287520" y="250524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86920" y="2555640"/>
              <a:ext cx="9027720" cy="1015560"/>
              <a:chOff x="286920" y="2555640"/>
              <a:chExt cx="9027720" cy="1015560"/>
            </a:xfrm>
          </p:grpSpPr>
          <p:sp>
            <p:nvSpPr>
              <p:cNvPr id="236" name=""/>
              <p:cNvSpPr/>
              <p:nvPr/>
            </p:nvSpPr>
            <p:spPr>
              <a:xfrm>
                <a:off x="2436120" y="3106440"/>
                <a:ext cx="687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526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872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7520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67720" y="2964960"/>
                <a:ext cx="53604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61320" y="2964960"/>
                <a:ext cx="53496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7026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99680" y="2964960"/>
                <a:ext cx="53460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07200" y="2577600"/>
                <a:ext cx="63468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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58360" y="258876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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52800" y="258876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93280" y="25556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92280" y="25556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723880" y="2626920"/>
                <a:ext cx="34200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86920" y="2619000"/>
                <a:ext cx="19699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Raggruppament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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globine 16p13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2436120" y="3288960"/>
                <a:ext cx="6878160" cy="282240"/>
                <a:chOff x="2436120" y="3288960"/>
                <a:chExt cx="6878160" cy="2822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436120" y="3429720"/>
                  <a:ext cx="6878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526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1872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8748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867360" y="3288960"/>
                  <a:ext cx="53604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860960" y="3288960"/>
                  <a:ext cx="53496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70228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99320" y="3288960"/>
                  <a:ext cx="534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19932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867360" y="3571200"/>
                  <a:ext cx="38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93872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70228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4" name=""/>
          <p:cNvSpPr/>
          <p:nvPr/>
        </p:nvSpPr>
        <p:spPr>
          <a:xfrm>
            <a:off x="1267920" y="4451400"/>
            <a:ext cx="70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ene definito allele  l’insieme dei due geni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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092240" y="3876840"/>
            <a:ext cx="2476440" cy="505800"/>
            <a:chOff x="1092240" y="3876840"/>
            <a:chExt cx="2476440" cy="505800"/>
          </a:xfrm>
        </p:grpSpPr>
        <p:sp>
          <p:nvSpPr>
            <p:cNvPr id="266" name=""/>
            <p:cNvSpPr/>
            <p:nvPr/>
          </p:nvSpPr>
          <p:spPr>
            <a:xfrm flipV="1">
              <a:off x="1778040" y="3980880"/>
              <a:ext cx="179064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74160" y="387684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62480" y="387684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44600" y="387684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2240" y="4326480"/>
              <a:ext cx="177120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69280" y="422568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57600" y="4225680"/>
              <a:ext cx="37044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39720" y="42256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49400" y="4045320"/>
              <a:ext cx="171360" cy="16848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715000" y="3952800"/>
            <a:ext cx="2361960" cy="433440"/>
            <a:chOff x="5715000" y="3952800"/>
            <a:chExt cx="2361960" cy="433440"/>
          </a:xfrm>
        </p:grpSpPr>
        <p:sp>
          <p:nvSpPr>
            <p:cNvPr id="276" name=""/>
            <p:cNvSpPr/>
            <p:nvPr/>
          </p:nvSpPr>
          <p:spPr>
            <a:xfrm>
              <a:off x="5886360" y="4048920"/>
              <a:ext cx="21906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82800" y="395280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71120" y="395280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53240" y="395280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86320" y="4325400"/>
              <a:ext cx="17906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71120" y="422928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53240" y="42292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5000" y="395496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311720" y="4181400"/>
            <a:ext cx="907920" cy="152640"/>
          </a:xfrm>
          <a:custGeom>
            <a:avLst/>
            <a:gdLst>
              <a:gd name="textAreaLeft" fmla="*/ 141840 w 907920"/>
              <a:gd name="textAreaRight" fmla="*/ 794520 w 9079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2920" y="5029200"/>
            <a:ext cx="84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l sud est asiatico sono presenti entrambi i tipi di delezio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entre in Africa e’ praticamente assente l’allele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70920" y="5783400"/>
            <a:ext cx="79434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genotipi possibili sono 6 e i fenotipi sono diversi a sec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lle combin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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  <a:ea typeface="ＭＳ Ｐゴシック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F47-F65B-4D97-B658-DAE883F3BA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42680" y="593280"/>
            <a:ext cx="842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Genotipi e fenotipi n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-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5000" y="161460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se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9840" y="281772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. Ge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5120" y="38703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5160" y="49672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326600" y="1050840"/>
            <a:ext cx="1398240" cy="4419720"/>
            <a:chOff x="1326600" y="1050840"/>
            <a:chExt cx="1398240" cy="4419720"/>
          </a:xfrm>
        </p:grpSpPr>
        <p:sp>
          <p:nvSpPr>
            <p:cNvPr id="294" name=""/>
            <p:cNvSpPr/>
            <p:nvPr/>
          </p:nvSpPr>
          <p:spPr>
            <a:xfrm>
              <a:off x="1403640" y="1050840"/>
              <a:ext cx="132012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326600" y="1334880"/>
              <a:ext cx="1398240" cy="4001040"/>
              <a:chOff x="1326600" y="1334880"/>
              <a:chExt cx="1398240" cy="400104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1334160" y="1334880"/>
                <a:ext cx="1390680" cy="2854080"/>
                <a:chOff x="1334160" y="1334880"/>
                <a:chExt cx="1390680" cy="285408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1517400" y="1754280"/>
                  <a:ext cx="1114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711440" y="1682640"/>
                  <a:ext cx="26784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207880" y="1682640"/>
                  <a:ext cx="26640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639080" y="133488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138760" y="133488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517400" y="2122560"/>
                  <a:ext cx="111492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711440" y="2060640"/>
                  <a:ext cx="26784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207880" y="2060640"/>
                  <a:ext cx="26640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18560" y="171288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118240" y="171288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765440" y="26733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334160" y="3546360"/>
                  <a:ext cx="1390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omozigo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wild-typ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1326600" y="4937040"/>
                <a:ext cx="124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essu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751480" y="1050840"/>
            <a:ext cx="1359360" cy="4419720"/>
            <a:chOff x="2751480" y="1050840"/>
            <a:chExt cx="1359360" cy="4419720"/>
          </a:xfrm>
        </p:grpSpPr>
        <p:sp>
          <p:nvSpPr>
            <p:cNvPr id="311" name=""/>
            <p:cNvSpPr/>
            <p:nvPr/>
          </p:nvSpPr>
          <p:spPr>
            <a:xfrm>
              <a:off x="2751480" y="1050840"/>
              <a:ext cx="132048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768760" y="1754280"/>
              <a:ext cx="1114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63160" y="168264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59960" y="1682640"/>
              <a:ext cx="26676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88640" y="13348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89400" y="13348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8760" y="2122560"/>
              <a:ext cx="11142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63160" y="206064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68120" y="17128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17160" y="2673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1200" y="348912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84680" y="494820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ie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448240" y="1050840"/>
            <a:ext cx="1434600" cy="4419720"/>
            <a:chOff x="5448240" y="1050840"/>
            <a:chExt cx="1434600" cy="4419720"/>
          </a:xfrm>
        </p:grpSpPr>
        <p:sp>
          <p:nvSpPr>
            <p:cNvPr id="324" name=""/>
            <p:cNvSpPr/>
            <p:nvPr/>
          </p:nvSpPr>
          <p:spPr>
            <a:xfrm>
              <a:off x="5448240" y="1050840"/>
              <a:ext cx="132084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448240" y="1330200"/>
              <a:ext cx="1434600" cy="4012200"/>
              <a:chOff x="5448240" y="1330200"/>
              <a:chExt cx="1434600" cy="4012200"/>
            </a:xfrm>
          </p:grpSpPr>
          <p:sp>
            <p:nvSpPr>
              <p:cNvPr id="326" name=""/>
              <p:cNvSpPr/>
              <p:nvPr/>
            </p:nvSpPr>
            <p:spPr>
              <a:xfrm flipV="1">
                <a:off x="5448240" y="1748880"/>
                <a:ext cx="1113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42280" y="1677960"/>
                <a:ext cx="268200" cy="106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67760" y="133020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48240" y="2117520"/>
                <a:ext cx="11138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42280" y="2055600"/>
                <a:ext cx="268200" cy="104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7600" y="170820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96280" y="2668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92160" y="3565440"/>
                <a:ext cx="139068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omozigo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nessun alle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wild-type!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63440" y="494352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6769080" y="1050840"/>
            <a:ext cx="1578240" cy="4419720"/>
            <a:chOff x="6769080" y="1050840"/>
            <a:chExt cx="1578240" cy="4419720"/>
          </a:xfrm>
        </p:grpSpPr>
        <p:sp>
          <p:nvSpPr>
            <p:cNvPr id="336" name=""/>
            <p:cNvSpPr/>
            <p:nvPr/>
          </p:nvSpPr>
          <p:spPr>
            <a:xfrm>
              <a:off x="6796080" y="1050840"/>
              <a:ext cx="144468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50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769080" y="1749600"/>
              <a:ext cx="1114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63120" y="167796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88960" y="13302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69080" y="2117880"/>
              <a:ext cx="11145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17120" y="2668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48280" y="3565440"/>
              <a:ext cx="1499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essun alle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-type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27200" y="4632480"/>
              <a:ext cx="90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r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100400" y="1050840"/>
            <a:ext cx="1405440" cy="4419720"/>
            <a:chOff x="4100400" y="1050840"/>
            <a:chExt cx="1405440" cy="4419720"/>
          </a:xfrm>
        </p:grpSpPr>
        <p:grpSp>
          <p:nvGrpSpPr>
            <p:cNvPr id="345" name=""/>
            <p:cNvGrpSpPr/>
            <p:nvPr/>
          </p:nvGrpSpPr>
          <p:grpSpPr>
            <a:xfrm>
              <a:off x="4100400" y="1050840"/>
              <a:ext cx="1320120" cy="4419720"/>
              <a:chOff x="4100400" y="1050840"/>
              <a:chExt cx="1320120" cy="4419720"/>
            </a:xfrm>
          </p:grpSpPr>
          <p:sp>
            <p:nvSpPr>
              <p:cNvPr id="346" name=""/>
              <p:cNvSpPr/>
              <p:nvPr/>
            </p:nvSpPr>
            <p:spPr>
              <a:xfrm>
                <a:off x="4100400" y="1050840"/>
                <a:ext cx="1320120" cy="4419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b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4127400" y="1774800"/>
                <a:ext cx="1114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22160" y="1703160"/>
                <a:ext cx="2682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18960" y="1703160"/>
                <a:ext cx="2664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247280" y="135576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47680" y="135576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27400" y="2143080"/>
                <a:ext cx="11142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376160" y="2693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243320" y="496872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4156200" y="348912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8282160" y="1050840"/>
            <a:ext cx="1443960" cy="4419720"/>
            <a:chOff x="8282160" y="1050840"/>
            <a:chExt cx="1443960" cy="4419720"/>
          </a:xfrm>
        </p:grpSpPr>
        <p:sp>
          <p:nvSpPr>
            <p:cNvPr id="357" name=""/>
            <p:cNvSpPr/>
            <p:nvPr/>
          </p:nvSpPr>
          <p:spPr>
            <a:xfrm>
              <a:off x="8282160" y="1050840"/>
              <a:ext cx="144396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2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8378280" y="17488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78280" y="21175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35600" y="2668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24280" y="3840120"/>
              <a:ext cx="13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m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5280" y="494352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et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05720" y="5411880"/>
            <a:ext cx="9018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cune forme d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alassemia sono dovute all’instabilita’ dell’mRNA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l’emoglobina:mutazione nel sito di poliadenilazione, perdita del codone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op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9F6-B6E5-4934-ACD2-7FC2D2D5EE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Possibile progenie dei portator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398160" y="15238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ti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311560" y="1376280"/>
            <a:ext cx="1320120" cy="914040"/>
            <a:chOff x="2311560" y="1376280"/>
            <a:chExt cx="1320120" cy="914040"/>
          </a:xfrm>
        </p:grpSpPr>
        <p:sp>
          <p:nvSpPr>
            <p:cNvPr id="367" name=""/>
            <p:cNvSpPr/>
            <p:nvPr/>
          </p:nvSpPr>
          <p:spPr>
            <a:xfrm flipV="1">
              <a:off x="2356200" y="1794960"/>
              <a:ext cx="111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50240" y="172404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47040" y="1724040"/>
              <a:ext cx="2664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7572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7648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56200" y="2163600"/>
              <a:ext cx="111348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50240" y="2101680"/>
              <a:ext cx="268200" cy="1051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55560" y="17542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1560" y="1447920"/>
              <a:ext cx="132012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100400" y="1397160"/>
            <a:ext cx="1320480" cy="888840"/>
            <a:chOff x="4100400" y="1397160"/>
            <a:chExt cx="1320480" cy="888840"/>
          </a:xfrm>
        </p:grpSpPr>
        <p:sp>
          <p:nvSpPr>
            <p:cNvPr id="377" name=""/>
            <p:cNvSpPr/>
            <p:nvPr/>
          </p:nvSpPr>
          <p:spPr>
            <a:xfrm flipV="1">
              <a:off x="4127400" y="1816200"/>
              <a:ext cx="1114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22160" y="174456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18960" y="1744560"/>
              <a:ext cx="26676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4800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4840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27400" y="2184480"/>
              <a:ext cx="11145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0040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026040" y="1371600"/>
            <a:ext cx="1320480" cy="914400"/>
            <a:chOff x="6026040" y="1371600"/>
            <a:chExt cx="1320480" cy="914400"/>
          </a:xfrm>
        </p:grpSpPr>
        <p:sp>
          <p:nvSpPr>
            <p:cNvPr id="385" name=""/>
            <p:cNvSpPr/>
            <p:nvPr/>
          </p:nvSpPr>
          <p:spPr>
            <a:xfrm flipV="1">
              <a:off x="612216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1656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4204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2216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16560" y="209700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21520" y="174960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2604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8007480" y="1371600"/>
            <a:ext cx="1320480" cy="914400"/>
            <a:chOff x="8007480" y="1371600"/>
            <a:chExt cx="1320480" cy="914400"/>
          </a:xfrm>
        </p:grpSpPr>
        <p:sp>
          <p:nvSpPr>
            <p:cNvPr id="393" name=""/>
            <p:cNvSpPr/>
            <p:nvPr/>
          </p:nvSpPr>
          <p:spPr>
            <a:xfrm flipV="1">
              <a:off x="802080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1520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6156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2080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748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90880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7400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4896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68560" y="2209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 H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03280" y="2895480"/>
            <a:ext cx="1650240" cy="1327320"/>
            <a:chOff x="1403280" y="2895480"/>
            <a:chExt cx="1650240" cy="1327320"/>
          </a:xfrm>
        </p:grpSpPr>
        <p:grpSp>
          <p:nvGrpSpPr>
            <p:cNvPr id="403" name=""/>
            <p:cNvGrpSpPr/>
            <p:nvPr/>
          </p:nvGrpSpPr>
          <p:grpSpPr>
            <a:xfrm>
              <a:off x="1403280" y="2895480"/>
              <a:ext cx="1650240" cy="1327320"/>
              <a:chOff x="1403280" y="2895480"/>
              <a:chExt cx="1650240" cy="132732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485720" y="2895480"/>
                <a:ext cx="1300680" cy="870120"/>
                <a:chOff x="1485720" y="2895480"/>
                <a:chExt cx="1300680" cy="870120"/>
              </a:xfrm>
            </p:grpSpPr>
            <p:sp>
              <p:nvSpPr>
                <p:cNvPr id="405" name=""/>
                <p:cNvSpPr/>
                <p:nvPr/>
              </p:nvSpPr>
              <p:spPr>
                <a:xfrm flipV="1">
                  <a:off x="1485720" y="3274920"/>
                  <a:ext cx="1300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710360" y="3186000"/>
                  <a:ext cx="31428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93200" y="3186000"/>
                  <a:ext cx="30924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7154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9968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1485720" y="3720600"/>
                  <a:ext cx="13006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710360" y="3630600"/>
                  <a:ext cx="3142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93200" y="3630600"/>
                  <a:ext cx="30924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68264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728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403280" y="2927520"/>
                <a:ext cx="1650240" cy="1295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614600" y="37400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orm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219480" y="2895480"/>
            <a:ext cx="1628280" cy="1299240"/>
            <a:chOff x="3219480" y="2895480"/>
            <a:chExt cx="1628280" cy="1299240"/>
          </a:xfrm>
        </p:grpSpPr>
        <p:grpSp>
          <p:nvGrpSpPr>
            <p:cNvPr id="418" name=""/>
            <p:cNvGrpSpPr/>
            <p:nvPr/>
          </p:nvGrpSpPr>
          <p:grpSpPr>
            <a:xfrm>
              <a:off x="3362040" y="2895480"/>
              <a:ext cx="1320480" cy="878040"/>
              <a:chOff x="3362040" y="2895480"/>
              <a:chExt cx="1320480" cy="87804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3362040" y="32792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87400" y="31888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70240" y="318888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920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770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81120" y="37033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6120" y="36241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61840" y="33415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219480" y="2946240"/>
              <a:ext cx="1628280" cy="1248480"/>
              <a:chOff x="3219480" y="2946240"/>
              <a:chExt cx="1628280" cy="1248480"/>
            </a:xfrm>
          </p:grpSpPr>
          <p:sp>
            <p:nvSpPr>
              <p:cNvPr id="428" name=""/>
              <p:cNvSpPr/>
              <p:nvPr/>
            </p:nvSpPr>
            <p:spPr>
              <a:xfrm>
                <a:off x="3219480" y="2946240"/>
                <a:ext cx="1568160" cy="1244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303000" y="3648240"/>
                <a:ext cx="154476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rat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alassem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5200560" y="2895480"/>
            <a:ext cx="1651320" cy="1295640"/>
            <a:chOff x="5200560" y="2895480"/>
            <a:chExt cx="1651320" cy="1295640"/>
          </a:xfrm>
        </p:grpSpPr>
        <p:sp>
          <p:nvSpPr>
            <p:cNvPr id="431" name=""/>
            <p:cNvSpPr/>
            <p:nvPr/>
          </p:nvSpPr>
          <p:spPr>
            <a:xfrm>
              <a:off x="520056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5212800" y="2895480"/>
              <a:ext cx="1639080" cy="1130400"/>
              <a:chOff x="5212800" y="2895480"/>
              <a:chExt cx="1639080" cy="11304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301720" y="2895480"/>
                <a:ext cx="1301040" cy="811080"/>
                <a:chOff x="5301720" y="2895480"/>
                <a:chExt cx="1301040" cy="811080"/>
              </a:xfrm>
            </p:grpSpPr>
            <p:sp>
              <p:nvSpPr>
                <p:cNvPr id="434" name=""/>
                <p:cNvSpPr/>
                <p:nvPr/>
              </p:nvSpPr>
              <p:spPr>
                <a:xfrm flipV="1">
                  <a:off x="5301720" y="3279240"/>
                  <a:ext cx="13010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528520" y="3188880"/>
                  <a:ext cx="3124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109200" y="3188880"/>
                  <a:ext cx="31140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5314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11604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301720" y="3698640"/>
                  <a:ext cx="130104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5212800" y="3657600"/>
                <a:ext cx="163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nemia lie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7099200" y="2870280"/>
            <a:ext cx="1568160" cy="1320840"/>
            <a:chOff x="7099200" y="2870280"/>
            <a:chExt cx="1568160" cy="1320840"/>
          </a:xfrm>
        </p:grpSpPr>
        <p:grpSp>
          <p:nvGrpSpPr>
            <p:cNvPr id="442" name=""/>
            <p:cNvGrpSpPr/>
            <p:nvPr/>
          </p:nvGrpSpPr>
          <p:grpSpPr>
            <a:xfrm>
              <a:off x="7153920" y="2870280"/>
              <a:ext cx="1349640" cy="811080"/>
              <a:chOff x="7153920" y="2870280"/>
              <a:chExt cx="1349640" cy="811080"/>
            </a:xfrm>
          </p:grpSpPr>
          <p:sp>
            <p:nvSpPr>
              <p:cNvPr id="443" name=""/>
              <p:cNvSpPr/>
              <p:nvPr/>
            </p:nvSpPr>
            <p:spPr>
              <a:xfrm>
                <a:off x="7201800" y="32432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430760" y="31636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13840" y="28702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153920" y="36734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09920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9200" y="37036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896560" y="4952880"/>
            <a:ext cx="1643400" cy="1295640"/>
            <a:chOff x="2896560" y="4952880"/>
            <a:chExt cx="1643400" cy="1295640"/>
          </a:xfrm>
        </p:grpSpPr>
        <p:sp>
          <p:nvSpPr>
            <p:cNvPr id="450" name=""/>
            <p:cNvSpPr/>
            <p:nvPr/>
          </p:nvSpPr>
          <p:spPr>
            <a:xfrm>
              <a:off x="2971080" y="5003640"/>
              <a:ext cx="156888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96560" y="579132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nemia li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053880" y="4952880"/>
              <a:ext cx="1320480" cy="878040"/>
              <a:chOff x="3053880" y="4952880"/>
              <a:chExt cx="1320480" cy="878040"/>
            </a:xfrm>
          </p:grpSpPr>
          <p:sp>
            <p:nvSpPr>
              <p:cNvPr id="453" name=""/>
              <p:cNvSpPr/>
              <p:nvPr/>
            </p:nvSpPr>
            <p:spPr>
              <a:xfrm flipV="1">
                <a:off x="3053880" y="53366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27924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839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072960" y="57607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9796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5368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6273720" y="4952880"/>
            <a:ext cx="1628640" cy="1298880"/>
            <a:chOff x="6273720" y="4952880"/>
            <a:chExt cx="1628640" cy="1298880"/>
          </a:xfrm>
        </p:grpSpPr>
        <p:grpSp>
          <p:nvGrpSpPr>
            <p:cNvPr id="460" name=""/>
            <p:cNvGrpSpPr/>
            <p:nvPr/>
          </p:nvGrpSpPr>
          <p:grpSpPr>
            <a:xfrm>
              <a:off x="6416280" y="4952880"/>
              <a:ext cx="1320120" cy="878040"/>
              <a:chOff x="6416280" y="4952880"/>
              <a:chExt cx="1320120" cy="87804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6416280" y="5336640"/>
                <a:ext cx="13010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4128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24120" y="5246280"/>
                <a:ext cx="3088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4596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23096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35360" y="5760720"/>
                <a:ext cx="13010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6000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1608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6273720" y="500364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57600" y="570528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8089920" y="4927680"/>
            <a:ext cx="1568160" cy="1320840"/>
            <a:chOff x="8089920" y="4927680"/>
            <a:chExt cx="1568160" cy="1320840"/>
          </a:xfrm>
        </p:grpSpPr>
        <p:grpSp>
          <p:nvGrpSpPr>
            <p:cNvPr id="472" name=""/>
            <p:cNvGrpSpPr/>
            <p:nvPr/>
          </p:nvGrpSpPr>
          <p:grpSpPr>
            <a:xfrm>
              <a:off x="8144640" y="4927680"/>
              <a:ext cx="1349640" cy="811080"/>
              <a:chOff x="8144640" y="4927680"/>
              <a:chExt cx="1349640" cy="811080"/>
            </a:xfrm>
          </p:grpSpPr>
          <p:sp>
            <p:nvSpPr>
              <p:cNvPr id="473" name=""/>
              <p:cNvSpPr/>
              <p:nvPr/>
            </p:nvSpPr>
            <p:spPr>
              <a:xfrm>
                <a:off x="8192520" y="53006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421480" y="52210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404560" y="49276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144640" y="57308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8089920" y="50036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49920" y="57610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2440" y="2666880"/>
            <a:ext cx="9080280" cy="1905120"/>
            <a:chOff x="82440" y="2666880"/>
            <a:chExt cx="9080280" cy="1905120"/>
          </a:xfrm>
        </p:grpSpPr>
        <p:sp>
          <p:nvSpPr>
            <p:cNvPr id="480" name=""/>
            <p:cNvSpPr/>
            <p:nvPr/>
          </p:nvSpPr>
          <p:spPr>
            <a:xfrm>
              <a:off x="342360" y="32004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 x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440" y="2666880"/>
              <a:ext cx="9080280" cy="1905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82440" y="4800600"/>
            <a:ext cx="4870080" cy="1676520"/>
            <a:chOff x="82440" y="4800600"/>
            <a:chExt cx="4870080" cy="1676520"/>
          </a:xfrm>
        </p:grpSpPr>
        <p:sp>
          <p:nvSpPr>
            <p:cNvPr id="483" name=""/>
            <p:cNvSpPr/>
            <p:nvPr/>
          </p:nvSpPr>
          <p:spPr>
            <a:xfrm>
              <a:off x="253800" y="53341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440" y="4800600"/>
              <a:ext cx="48700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283360" y="4800600"/>
            <a:ext cx="4554000" cy="1676520"/>
            <a:chOff x="5283360" y="4800600"/>
            <a:chExt cx="4554000" cy="1676520"/>
          </a:xfrm>
        </p:grpSpPr>
        <p:sp>
          <p:nvSpPr>
            <p:cNvPr id="486" name=""/>
            <p:cNvSpPr/>
            <p:nvPr/>
          </p:nvSpPr>
          <p:spPr>
            <a:xfrm>
              <a:off x="5372640" y="541008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83360" y="4800600"/>
              <a:ext cx="455400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073160" y="4876920"/>
            <a:ext cx="1628640" cy="1298880"/>
            <a:chOff x="1073160" y="4876920"/>
            <a:chExt cx="1628640" cy="1298880"/>
          </a:xfrm>
        </p:grpSpPr>
        <p:grpSp>
          <p:nvGrpSpPr>
            <p:cNvPr id="489" name=""/>
            <p:cNvGrpSpPr/>
            <p:nvPr/>
          </p:nvGrpSpPr>
          <p:grpSpPr>
            <a:xfrm>
              <a:off x="1215720" y="4876920"/>
              <a:ext cx="1320120" cy="878040"/>
              <a:chOff x="1215720" y="4876920"/>
              <a:chExt cx="1320120" cy="878040"/>
            </a:xfrm>
          </p:grpSpPr>
          <p:sp>
            <p:nvSpPr>
              <p:cNvPr id="490" name=""/>
              <p:cNvSpPr/>
              <p:nvPr/>
            </p:nvSpPr>
            <p:spPr>
              <a:xfrm flipV="1">
                <a:off x="1215720" y="5260680"/>
                <a:ext cx="13010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40720" y="517032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023560" y="5170320"/>
                <a:ext cx="3088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44540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3040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234800" y="5684760"/>
                <a:ext cx="13010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59440" y="560556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415520" y="532296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1073160" y="492768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57040" y="562932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D98-8EB1-4F8A-AD7C-5DEBC426E3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13:04:24Z</dcterms:created>
  <dc:creator>Rocchi</dc:creator>
  <dc:description/>
  <dc:language>en-US</dc:language>
  <cp:lastModifiedBy>Mariano Rocchi</cp:lastModifiedBy>
  <cp:lastPrinted>2005-06-11T07:35:32Z</cp:lastPrinted>
  <dcterms:modified xsi:type="dcterms:W3CDTF">2005-06-12T16:05:38Z</dcterms:modified>
  <cp:revision>402</cp:revision>
  <dc:subject/>
  <dc:title>PowerPoint Presentation</dc:title>
</cp:coreProperties>
</file>